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59F-6BC5-460A-B757-F7A3807E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0124-53E4-4BA3-8F45-27109782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9F6E-B82E-408A-A77D-7EEB566D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A76C-499D-4637-85F3-0AC643BB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3D1A-77BD-4719-90CA-505C5822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CBC8-FA79-4D89-9048-9654BCD9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FF78-DB8D-4C1A-9C9C-A4532DFE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6560-5755-4E6C-8E82-A1F48CAD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AC43-87EB-490F-A345-4073C4B3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B130-5D04-4A25-A1A7-318833CC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7F18-33F9-42E5-90F5-5BFD6C6F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650-C7FA-4DA2-BCED-85BAC1C7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B106-84CB-46BB-87DD-7A3F4857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B75D-5500-4B71-9C50-30F9C2FE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90B0-F643-45A2-A422-CBCEDBCD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51A2-DBEE-4D45-A0A6-6DA61F1B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249B-214D-4E93-A467-2B873D45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1EBF-EB53-43FA-AD74-175D3618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94C6-8DF0-4D98-9F4B-904C4107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C81-8008-46C3-A31A-C2D68AA5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EF1-21DE-4367-8B22-C606751B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EFC-B8A5-4ED9-B6E8-9A1DBB79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B57-7CDD-491E-A5B6-E8C14C28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849-5CA1-418F-AD5F-832418BB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1DAE-25C7-47C7-97EA-531E0C2A23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FFD3-D9C9-407C-8D40-F8E8E82E02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bowermanknight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0" y="54100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ril,27,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#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228600"/>
            <a:ext cx="73152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33cccc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thletic Shoe</a:t>
            </a:r>
            <a:endParaRPr b="0" lang="en-US" sz="6000" spc="1" strike="noStrike">
              <a:ln w="12600">
                <a:solidFill>
                  <a:srgbClr val="33cccc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4800600"/>
            <a:ext cx="487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518148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5257800"/>
            <a:ext cx="5410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g Blas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May 7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52280" y="3657600"/>
            <a:ext cx="2135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Bowerman &amp; Knight"/>
          <p:cNvPicPr/>
          <p:nvPr/>
        </p:nvPicPr>
        <p:blipFill>
          <a:blip r:embed="rId1"/>
          <a:stretch/>
        </p:blipFill>
        <p:spPr>
          <a:xfrm>
            <a:off x="1066680" y="1295280"/>
            <a:ext cx="6477120" cy="2376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89280" y="4303800"/>
            <a:ext cx="634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4724280"/>
            <a:ext cx="5943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thletic sho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May 10,2010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web.mit.edu/invent/iow/bowermanknight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380988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657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illip Knight and William Bowerman invented the first Athletic Sho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entury"/>
              </a:rPr>
              <a:t>Invention: Athletic Sho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athletic shoe that Bill Bowerman and Phil Knight made had more elev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hen they made the Waffle Shoe those were the most popular out of all the athletic apparel shoes they m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n one Olympic trial 3 of the first runners wore Nik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rom endorsement deals they made a lot of money on the shoes like superstar Michael Jordan had a catchy slogan that said “Just do I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n Athletic shoes and Nike went public in 19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2278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entury"/>
              </a:rPr>
              <a:t>Inventor: Bill Bowerman and Phil Knight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hil Knight in 1958 had a business major at the University of Oreg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hil was on the track team and his coach was Bill Bowerm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ill didn’t like the clumsiness of the American running sho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y both formed a company in 1964 to make a better sho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n in 1968 the company was called N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3:19:47Z</dcterms:created>
  <dc:creator>install</dc:creator>
  <dc:description/>
  <dc:language>en-US</dc:language>
  <cp:lastModifiedBy>install</cp:lastModifiedBy>
  <dcterms:modified xsi:type="dcterms:W3CDTF">2010-05-12T13:13:20Z</dcterms:modified>
  <cp:revision>8</cp:revision>
  <dc:subject/>
  <dc:title>Slide 1</dc:title>
</cp:coreProperties>
</file>